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C708-8E3D-455C-B32B-F92CF3A59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53F8-67C5-4FF8-B666-8A9CB577F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0CC3-BB6B-4AEC-9D21-2B88321FC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93E1-9B98-4BA6-B776-B63FF51D9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C18BE-E5DE-4FF2-A049-3769C080B7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B5A4A-4FE6-4716-B905-590B2E0657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5A4D5-5E12-41CE-B537-8AA7434B8F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DA324-AFA6-4410-908B-F8B5C562B5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59743-5F92-418D-AECB-C7143272A3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EBA29-0419-45FD-A0FD-6371DF019F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C3925-7FCB-4651-9EC1-DCBBD6D435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B6EA2-37D4-44AE-B870-AFA45BC49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ED8E8-9512-4B8B-B3C1-11866059F6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C3340-2C96-4852-9BF3-4904719A38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3B602-E906-47E6-AB2F-AADD10C520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64FE9-8D4F-492E-9453-20DADADFBA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6BC98-6246-4F2E-B4AB-DB3C867CC8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C696-415C-4160-B7F0-281FE23562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F0E4-3586-477E-A2AC-E85387B310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6885-5D44-4525-BA4E-1CBBEF3553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1EDF-A02A-45D4-8A20-C33E524CB3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2F52-0033-456B-99DF-1D59499A21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258FA-7B4B-4CE8-BD79-AF9A4E1B35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FF3B-56B5-4455-A85E-52F9C455B4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53D3-B0F1-4A1B-8044-1E8C44A414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41B0-51A9-4F42-A127-F8F122C49B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4503-8BF4-4FE5-8C4B-FE1790476D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F751-A657-444B-AA29-79A143754A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FEA4-9431-4C4C-ABF5-E884D5FF46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5EA4-032B-4A9B-9886-78A29DD6FF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F3DFC-AD39-4438-92FE-6122AF45E4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53D4B-145A-40AB-B871-96C2F05247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FABE8-BF09-4051-8F08-FDEBCE869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FCB20-E86D-4587-8D91-EFC447809C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AD518-EC41-4076-B4E8-B74B886A5D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26040-6900-4D6D-A651-28B6A7A83BC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89ACC-6F46-40FF-8E93-9C2EA22B77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279A1-AA3C-43A4-A2DF-ECEAD5062D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D777D-CBE1-4993-BBEB-1962F7247E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07E2A-1319-460C-BDB6-917837E0CC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263F3-94F4-42D2-86D1-203F14E4CC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D3541-5E1A-4DD7-A69C-737E12B9D1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8758C-7010-47D8-A972-3E6049C8B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38DF-B3FC-4E9F-8967-F1F098813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F6DF9-ABFC-4BEC-AE79-DD3B41391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8F35-BC9D-4A6E-A7D0-D9D24024F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ADB9-4D5D-46DD-BE1E-A87EDACF6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EBC62-FCDD-4B74-A54F-0B2BA3E53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2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19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" name="Picture 23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0720" y="1125360"/>
            <a:ext cx="78278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0360" y="2017800"/>
            <a:ext cx="823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7A52-D80F-4E3D-919B-D37FFC3193EC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Rectangle 12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7" name="Picture 13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891C-C231-4D3E-AB39-9E9D2CE6232B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Rectangle 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91" name="Picture 12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2521080" y="1125000"/>
            <a:ext cx="64339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5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FD05-F699-4583-9EAE-79158417C7AB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2" name="Rectangle 1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0" y="0"/>
              <a:ext cx="9144000" cy="234468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34" name="Picture 24" descr="titl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720" y="1125360"/>
            <a:ext cx="78278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20360" y="2017800"/>
            <a:ext cx="823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7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305B-A03B-40DD-B666-9858C0A2FD5A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00040" y="2768400"/>
            <a:ext cx="696420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87d"/>
                </a:solidFill>
                <a:latin typeface="Tahoma"/>
              </a:rPr>
              <a:t>Work-life balance in science:</a:t>
            </a:r>
            <a:br>
              <a:rPr sz="3200"/>
            </a:br>
            <a:br>
              <a:rPr sz="3200"/>
            </a:br>
            <a:r>
              <a:rPr b="0" i="1" lang="cs-CZ" sz="3200" spc="-1" strike="noStrike">
                <a:solidFill>
                  <a:srgbClr val="00287d"/>
                </a:solidFill>
                <a:latin typeface="Tahoma"/>
              </a:rPr>
              <a:t>struggling for papers and time off from the lab</a:t>
            </a:r>
            <a:endParaRPr b="1" lang="en-US" sz="3200" spc="-1" strike="noStrike">
              <a:solidFill>
                <a:srgbClr val="00287d"/>
              </a:solidFill>
              <a:latin typeface="Tahoma"/>
            </a:endParaRPr>
          </a:p>
        </p:txBody>
      </p:sp>
      <p:pic>
        <p:nvPicPr>
          <p:cNvPr id="176" name="Obrázek 3" descr=""/>
          <p:cNvPicPr/>
          <p:nvPr/>
        </p:nvPicPr>
        <p:blipFill>
          <a:blip r:embed="rId1"/>
          <a:stretch/>
        </p:blipFill>
        <p:spPr>
          <a:xfrm>
            <a:off x="2300400" y="5916600"/>
            <a:ext cx="634032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Marie Curie.tiff"/>
          <p:cNvPicPr/>
          <p:nvPr/>
        </p:nvPicPr>
        <p:blipFill>
          <a:blip r:embed="rId1"/>
          <a:stretch/>
        </p:blipFill>
        <p:spPr>
          <a:xfrm>
            <a:off x="2155680" y="884160"/>
            <a:ext cx="5070600" cy="59086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-74520" y="2246400"/>
            <a:ext cx="425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der equity in the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6152760" y="3300480"/>
            <a:ext cx="27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fertility tra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3859920" y="4702320"/>
            <a:ext cx="5361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far below the “replacement level” in many rich countr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decline is a direct product of greater opportunities for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marriages and reduction of births for the well-educated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529920" y="5734080"/>
            <a:ext cx="8093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time to address these challenges is now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236520" y="2482920"/>
            <a:ext cx="8546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young family income (? 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childcare help/recommend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idized day care for children (Sweden, Franc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 postdoctoral fellow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-family-leave grant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ional contacts during family leave (Dept Biol 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 start dates for PhD and gr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 for remote panel/meeting 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69120" y="1217520"/>
            <a:ext cx="91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y other creative suggestion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Obrázek 3" descr=""/>
          <p:cNvPicPr/>
          <p:nvPr/>
        </p:nvPicPr>
        <p:blipFill>
          <a:blip r:embed="rId1"/>
          <a:stretch/>
        </p:blipFill>
        <p:spPr>
          <a:xfrm>
            <a:off x="447840" y="6105600"/>
            <a:ext cx="69498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324000" y="1058760"/>
            <a:ext cx="863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U is No. 3 in CR after Academy of Sciences and Charles University in term of research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cellent infrastru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bout 900 original research papers with IF each year, most of them with major contribution of PhDs and postdoctoral scienti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apidly growing number of citations per article – increasing qu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creasing collaboration with researchers abroa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10" descr="fch 9"/>
          <p:cNvPicPr/>
          <p:nvPr/>
        </p:nvPicPr>
        <p:blipFill>
          <a:blip r:embed="rId6"/>
          <a:stretch/>
        </p:blipFill>
        <p:spPr>
          <a:xfrm>
            <a:off x="4676760" y="4014720"/>
            <a:ext cx="3336840" cy="2219400"/>
          </a:xfrm>
          <a:prstGeom prst="rect">
            <a:avLst/>
          </a:prstGeom>
          <a:ln w="9360">
            <a:solidFill>
              <a:srgbClr val="333399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79" name="Obrázek 3" descr=""/>
          <p:cNvPicPr/>
          <p:nvPr/>
        </p:nvPicPr>
        <p:blipFill>
          <a:blip r:embed="rId7"/>
          <a:stretch/>
        </p:blipFill>
        <p:spPr>
          <a:xfrm>
            <a:off x="990720" y="4008600"/>
            <a:ext cx="3290760" cy="2219040"/>
          </a:xfrm>
          <a:prstGeom prst="rect">
            <a:avLst/>
          </a:prstGeom>
          <a:ln w="9360">
            <a:solidFill>
              <a:srgbClr val="333399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80" name="Rectangle 7"/>
          <p:cNvSpPr/>
          <p:nvPr/>
        </p:nvSpPr>
        <p:spPr>
          <a:xfrm>
            <a:off x="68400" y="3355920"/>
            <a:ext cx="90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 world average in many fields, some teams excell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Untitled.tiff"/>
          <p:cNvPicPr/>
          <p:nvPr/>
        </p:nvPicPr>
        <p:blipFill>
          <a:blip r:embed="rId1"/>
          <a:stretch/>
        </p:blipFill>
        <p:spPr>
          <a:xfrm>
            <a:off x="1440" y="1158840"/>
            <a:ext cx="5432400" cy="49467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4640400" y="1628640"/>
            <a:ext cx="334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What PIs exp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Tal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Hard work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4641840" y="3303720"/>
            <a:ext cx="437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g hours working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sala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cessive demands and great press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mited perspective to get permanent jo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leisure activ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fficult personal lif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048120" y="5249880"/>
            <a:ext cx="60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 of doing science, great discove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d stellar carrier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7" descr="1.tiff"/>
          <p:cNvPicPr/>
          <p:nvPr/>
        </p:nvPicPr>
        <p:blipFill>
          <a:blip r:embed="rId2"/>
          <a:stretch/>
        </p:blipFill>
        <p:spPr>
          <a:xfrm>
            <a:off x="6545160" y="2176560"/>
            <a:ext cx="2568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Marie Curie.tiff"/>
          <p:cNvPicPr/>
          <p:nvPr/>
        </p:nvPicPr>
        <p:blipFill>
          <a:blip r:embed="rId1"/>
          <a:stretch/>
        </p:blipFill>
        <p:spPr>
          <a:xfrm>
            <a:off x="2155680" y="884160"/>
            <a:ext cx="5070600" cy="59086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"/>
          <p:cNvSpPr/>
          <p:nvPr/>
        </p:nvSpPr>
        <p:spPr>
          <a:xfrm>
            <a:off x="-74520" y="2246400"/>
            <a:ext cx="425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der equity in the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6152760" y="3300480"/>
            <a:ext cx="27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fertility tra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3859920" y="4702320"/>
            <a:ext cx="5361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far below the “replacement level” in many rich countr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decline is a direct product of greater opportunities for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marriages and reduction of births for the well-educated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Map 1.tiff"/>
          <p:cNvPicPr/>
          <p:nvPr/>
        </p:nvPicPr>
        <p:blipFill>
          <a:blip r:embed="rId1"/>
          <a:stretch/>
        </p:blipFill>
        <p:spPr>
          <a:xfrm>
            <a:off x="600120" y="1311120"/>
            <a:ext cx="7786800" cy="49388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600120" y="4494240"/>
            <a:ext cx="2079720" cy="16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689120" y="1311120"/>
            <a:ext cx="1471680" cy="1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4448160" y="5889600"/>
            <a:ext cx="8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 : M rati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649440" y="1486080"/>
            <a:ext cx="19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ender and research outpu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00240" y="2722680"/>
            <a:ext cx="64260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Greatest gender parity is often in former communist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Low research output ~ female domi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omen dominate science in Macedonia, Sri Lanka, Latvia, Ukraine and Bosnia/Herzegovi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omen are globally less likely to participate in collaboration and be listed as either first or last auth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Map 2.tiff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2182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4570920" y="5826240"/>
            <a:ext cx="772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 : M rati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2282760" y="1200240"/>
          <a:ext cx="2665440" cy="2422440"/>
        </p:xfrm>
        <a:graphic>
          <a:graphicData uri="http://schemas.openxmlformats.org/drawingml/2006/table">
            <a:tbl>
              <a:tblPr/>
              <a:tblGrid>
                <a:gridCol w="865080"/>
                <a:gridCol w="576360"/>
                <a:gridCol w="557280"/>
                <a:gridCol w="666720"/>
              </a:tblGrid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ul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i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rma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rts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199" name="Graf 6" descr=""/>
          <p:cNvPicPr/>
          <p:nvPr/>
        </p:nvPicPr>
        <p:blipFill>
          <a:blip r:embed="rId1"/>
          <a:stretch/>
        </p:blipFill>
        <p:spPr>
          <a:xfrm>
            <a:off x="5041800" y="1225440"/>
            <a:ext cx="370548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2290680" y="3994200"/>
          <a:ext cx="2735280" cy="2422440"/>
        </p:xfrm>
        <a:graphic>
          <a:graphicData uri="http://schemas.openxmlformats.org/drawingml/2006/table">
            <a:tbl>
              <a:tblPr/>
              <a:tblGrid>
                <a:gridCol w="863640"/>
                <a:gridCol w="576360"/>
                <a:gridCol w="611280"/>
                <a:gridCol w="684000"/>
              </a:tblGrid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ul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80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388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i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rma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rts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201" name="Graf 8" descr=""/>
          <p:cNvPicPr/>
          <p:nvPr/>
        </p:nvPicPr>
        <p:blipFill>
          <a:blip r:embed="rId2"/>
          <a:stretch/>
        </p:blipFill>
        <p:spPr>
          <a:xfrm>
            <a:off x="5145120" y="3968640"/>
            <a:ext cx="3700440" cy="21765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252360" y="1568520"/>
            <a:ext cx="948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873000" y="3068640"/>
          <a:ext cx="3384720" cy="1655640"/>
        </p:xfrm>
        <a:graphic>
          <a:graphicData uri="http://schemas.openxmlformats.org/drawingml/2006/table">
            <a:tbl>
              <a:tblPr/>
              <a:tblGrid>
                <a:gridCol w="1347840"/>
                <a:gridCol w="679680"/>
                <a:gridCol w="677880"/>
                <a:gridCol w="679320"/>
              </a:tblGrid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ademic 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tdo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oc. profes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0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es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204" name="Graf 4" descr=""/>
          <p:cNvPicPr/>
          <p:nvPr/>
        </p:nvPicPr>
        <p:blipFill>
          <a:blip r:embed="rId1"/>
          <a:stretch/>
        </p:blipFill>
        <p:spPr>
          <a:xfrm>
            <a:off x="4791240" y="2908440"/>
            <a:ext cx="3450960" cy="2097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1331280" y="1255680"/>
            <a:ext cx="56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ucture of MU research staf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Isosceles Triangle 5"/>
          <p:cNvSpPr/>
          <p:nvPr/>
        </p:nvSpPr>
        <p:spPr>
          <a:xfrm flipH="1">
            <a:off x="-720" y="2017800"/>
            <a:ext cx="5140440" cy="3473280"/>
          </a:xfrm>
          <a:prstGeom prst="triangle">
            <a:avLst>
              <a:gd name="adj" fmla="val 50000"/>
            </a:avLst>
          </a:prstGeom>
          <a:solidFill>
            <a:srgbClr val="ffec9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684720" y="1549440"/>
            <a:ext cx="52693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lancing work and lif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rather 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rather unhap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un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004.JPG"/>
          <p:cNvPicPr/>
          <p:nvPr/>
        </p:nvPicPr>
        <p:blipFill>
          <a:blip r:embed="rId1"/>
          <a:stretch/>
        </p:blipFill>
        <p:spPr>
          <a:xfrm>
            <a:off x="5622840" y="4500720"/>
            <a:ext cx="3429000" cy="22888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7056360" y="3059280"/>
            <a:ext cx="30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05:21:30Z</dcterms:created>
  <dc:creator>Pavel Jílek</dc:creator>
  <dc:description/>
  <dc:language>en-US</dc:language>
  <cp:lastModifiedBy>Eliska Pudova</cp:lastModifiedBy>
  <dcterms:modified xsi:type="dcterms:W3CDTF">2014-12-01T19:54:52Z</dcterms:modified>
  <cp:revision>36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axCatchAll">
    <vt:lpwstr/>
  </property>
  <property fmtid="{D5CDD505-2E9C-101B-9397-08002B2CF9AE}" pid="3" name="TaxKeyword">
    <vt:lpwstr/>
  </property>
  <property fmtid="{D5CDD505-2E9C-101B-9397-08002B2CF9AE}" pid="4" name="TaxKeywordTaxHTField">
    <vt:lpwstr/>
  </property>
</Properties>
</file>