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55C2-0439-419A-8B0C-F4388EC738B2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29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ECA7-BD0F-472B-B8E3-DB9F9B05D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datum 2"/>
          <p:cNvSpPr/>
          <p:nvPr/>
        </p:nvSpPr>
        <p:spPr>
          <a:xfrm>
            <a:off x="3860640" y="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481B-C046-4623-8BC0-1B13BAB3DADC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29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C0F-B4EA-4AC2-808F-E59E7A86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AEF-ACE5-4084-B5D1-473EC733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10A-5543-4C8E-BFBF-7B7C98E5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715-E0E6-4493-AE4A-8B4D1B58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58E-123C-4482-8EF9-44AC1163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CD6-73FF-4AA1-BBCB-02683CF7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EBA-AD7F-4CEF-A286-331B0A34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188-A77E-4F1A-9061-611E8864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FD8-8AC7-4354-B4D9-BF80D347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AB2-9E83-4536-8B4B-22FD146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883-1529-4FCB-8F5A-89FB9223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390-5F0B-4623-B4D7-322A788B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28.11.20137. 3. 20137.11.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Týden vědy a techniky 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F502-6A57-4F17-8253-5332CC5251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arta.vohlidalova@soc.cas.cz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02560" cy="26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3600" spc="-1" strike="noStrike">
                <a:solidFill>
                  <a:srgbClr val="c00000"/>
                </a:solidFill>
                <a:latin typeface="Calibri"/>
              </a:rPr>
              <a:t>Postavení mladých lidí ve vědě: problémy a výzv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2960" y="45082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hDr. Marta Vohlídalová, Ph.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ciologický ústav AV ČR, v.v.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.11.2014, Brno, CEITEC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nkc_logo_barevne_male"/>
          <p:cNvPicPr/>
          <p:nvPr/>
        </p:nvPicPr>
        <p:blipFill>
          <a:blip r:embed="rId1"/>
          <a:stretch/>
        </p:blipFill>
        <p:spPr>
          <a:xfrm>
            <a:off x="385920" y="260280"/>
            <a:ext cx="1595160" cy="109080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DE25-3FCE-4E26-B604-C0CD023ADF38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52" name="Picture 9" descr="logo SOU"/>
          <p:cNvPicPr/>
          <p:nvPr/>
        </p:nvPicPr>
        <p:blipFill>
          <a:blip r:embed="rId2"/>
          <a:stretch/>
        </p:blipFill>
        <p:spPr>
          <a:xfrm>
            <a:off x="7380360" y="333360"/>
            <a:ext cx="1244520" cy="78732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3" descr=""/>
          <p:cNvPicPr/>
          <p:nvPr/>
        </p:nvPicPr>
        <p:blipFill>
          <a:blip r:embed="rId3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 (2010). Study on mobility patterns and career paths of EU researchers. Final Report. Brussels: EC. (http://ec.europa.eu/euraxess/pdf/research_policies/MORE_final_report_final_version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. (2012a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Communication from the Commission to the European Parliament, the Council, the European Economic and Social Committee and the Committee of the Regions: A Reinforced European Research Area Partnership for Excellence and Growth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russels: E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Červinková, A. (2010). „Postdokovat po světě“: genderové politiky akademické mobility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Gender rovné příležitosti výzku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, 11(1), 49–59. Moguérou, P. (2004). A double gender-family inequality phenomenon in the international mobility of young researchers. (http://128.118.178.162/eps/it/papers/0403/0403003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dová, R., Hašková, H. 2010. „Diskursy, instituce a praxe péče o děti do tří let ve francouzsko-české komparativní perspektivě“. Gender, rovné příležitosti, výzkum 12 (2): 36-4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ays, S. 1996. The cultural contradictions of motherhood. New Haven, CT: Yale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M., Červinková, A. 2013- „Vlastní laboratoř“: Akademické trajektorie a gender v současných biovědách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Gender, rovné příležitosti, výzkum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4 (1): 15-26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 M., Stockelová, T. 2012. „Public accountability and the politicization of science: The peculiar journey of Czech research assesment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Science and Public POlic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39 (2012): 618-629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hauman, K., &amp; Xie, Y. (1996). Geographic mobility of scientists: sex differences and family constraints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Demography 33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4), 455-46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, Červinková, A. 2013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Vědci a vědkyně v pohybu: o akademické mobilitě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Ú AV Č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4. „Acadmic mobility in the context of linked-lives“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Human Affaires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4 (1): 89-10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3. „Vědkyně mezi dvěma mlýnskými kameny: o podmínkách kombinace práce a rodičovství ve vědecké profesi“ Pp. 99-126 in Linková, M. et al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ciologické nakladatelství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Wolf-Wendel, L., S.B. Twombly, S. Rice. (2003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The Two-Body Proble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altimore: The Johns Hopkins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ROLE VĚDY VE SPOLEČNOSTI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nástroj poznání a lidské emancipa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obecný společenský prospěch) →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prostředek ekonomického růstu a prosperit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(okamžitý) ekonomický profi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nková, 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ö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ckelová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FINANCOVÁNÍ VĚDY A JEJÍHO HODNOCE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vedení Metodiky hodnocení v roce 2004, od roku 2009 Metodika jako základ pro výpočet institucionální dot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ování závislosti institucí VaV na účelovém financování (Např. AV ČR: institucionální dotace 2007: 62 %, 2013: 35 %), kritika ze stra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zinárodního auditu výzkumu, vývoje a inovací v 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hranice 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nižující s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úspěšnos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ů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A 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35,7 % - 2007, 20,8 % - 2010, 16,5 % -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USPOŘÁDÁNÍ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ECKÉ PRÁ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ující se důraz na akademickou mobilitu – mobilita jako předpoklad excelenc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viz i pravidla pro žadatele o Juniorské granty GAČR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budování konkurenceschopné vědy a potažmo i ekonomiky (viz tzv. ERA Comminucation 7/20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4E23-285F-4D71-B0ED-97C6EA36B76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 Unicode MS"/>
                <a:ea typeface="Arial"/>
              </a:rPr>
              <a:t>PROMĚNY VĚDY 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ynamizace uspořádání vědeckých týmů: mizení pozic samostatných vědeckých pracovníků, nárůst počtu dočasných postdoktorských pozic vyžadujících extrémní mobilitu (prostorovou, časovou) i soutěživost (Linková, Červinková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ktorské a postdoktorské pozice: často nízké pracovní standardy, 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ětšina smluv na dobu určitou, část z nich není kryta sociálním pojištěním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doktorandů často DPP, DPČ (x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ální pojištění, mateřská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racovních smluv na dobu určitou: ztráta nároku na odstupné v případě ztráty pracovní pozice, celková ekonomická nejistota, rodičovství a mateřství;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řetězení postdoktorských stá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kaz řetězení pracovním smluv na dobu určitou: novela zákoníku práce z rok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1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ušící výjimku pro instituce VaV a VŠ ohledně řetězení pracovních smluv (dnes: pravidlo „dvakrát a dost“, max. délka smlouvy 3 roky) x reali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y o ideální pracovní dráze: Ph.D., postdoktorská stáž, samostatná/vedoucí pozice x reálné možnosti jejího naplnění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E8B8-1D25-45F1-B1F8-7B6D6F732958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Jak se s touto situací vyrovnávají mladí vědci a vědkyně?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viz Cidlinská, L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ilná normalizace nejistoty práce, trvalá pracovní pozice jako nadstandard, nejčastější odpověď týkající se profesních plánů (s výjimkou ukončení Ph.D.):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„nevím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ěda je mladými lidmi chápána spíše jako zaměstnání (intelektuálně a časově náročné), nikoliv jako posl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terému je třeba obětovat vše a který je hlavním smyslem živo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žnost odchodu z vědy jakožto nedílná součást uvažování o další kariéře:  Perspektiva uplatnění mimo vědu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mezený soukromý výzkumný sektor, akademická orientace doktorských programů, stereotypní představy zaměstnavatelů (překvalifikovanost, nedostatek praxe), absence kariérního poradenství na VŠ/institucích V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lhávající „ekonomie příslibu“: velké pracovní nasazení, flexibilita a nejistota na začátku pracovní dráhy byly tradičně vykupovány příslibem budoucího osamostatnění se, stability a tvůrčí svobody, které však již nelze garantov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2271-E6F6-4856-A0EA-29B5A9F3D517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KOMBINACE VĚDECKÉ PRÁCE A RODIČOV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ci/kyně mezi dvěma mlýnskými kame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Vohlídalová 2013, Link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vědeckého pracovního prostřed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 ideál lineární pracovní dráhy nepřerušovaný kariérními přestávkami, časová rozpínavost práce, soutěživ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7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ý model: „minimální mateřství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analizace problému kombinace práce a rodičovství –flexibilita jako všelék, individualizace problému, důraz na roli vlastní volby a svobodného rozhodnutí kombinace práce a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institucionálních podmínek péče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nzervativní rodinná politika (důraz na dlouhý pobyt žen s dětmi v domácnosti, reálná nedostupnost volby zkrácené varianty rodičovské, nedostupnost zařízení péče i pro děti starší 3 let, absence zařízení pro děti mladší 3 l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á podoba mateřství: „intenzivní mateřství“ (Hays 1996) – maximální pozornost věnovaná dítěti, dlouhodobý pobyt matky v domác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a o nesouladu mezi zájmy dítěte a ekonomickou aktivitou matky (x Fr a jiné kulturní kontexty) (Dudová, Hašková 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radiční dělba genderových rolí v domácnosti (včetně dvoukariérních pár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eálná volba možnosti kombinace práce a péče je značně omezená a podmínky pro kombinaci vědecké profese a rodičovství jsou nevyhovujíc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což negativně ovlivňuje zejména ženské pracovní drá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ademická mobilita jako jedna z priorit Evropských vědních polit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 mobility se stává předpoklad kariérního růstu → vylučování těch, co nejsou (nemohou) být mobi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Genderové rozdíly (zkušenosti s mobilitou v ČR - HEI sektor 45% m, 33% ž, veřejní výzkumný sektor 70 % m a 53 % ž; EC 2010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lišné vzorce: ženy kratší stáže do 6 měsíců v době PhD, muži častěji delší pobyty a postdoktorské stáže a regulérní pracovní poz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ý stav a rodičovství a zejména mateřství (Moguérou 2004, Shauman a Xie 199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lá pozornost věnovaná dopadům mobility na soukromý život migrujících vědců a jejich rodin a partne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odologie: 16 rozhovorů s vědci a vědkyněmi se zkušeností s mobilitou, 16 společných rozhovorů s akademickými p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, PARTNERSKÝ A RODINNÝ ŽIVOT, NÁVRA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uspořádání soukromého a rodinného života v důsledku mobility (migrující vědkyně – LAT, migrující vědci – stěhování rodin) (Vohlídalová 2014, Červinková 2010, Vohlídal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argumentac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pady mobility na partnerky mobilních vědců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wo-body problem“ (Wolf-Wendel 2009) – problémy s hledáním práce, uzavřené pracovní trhy a nedostatečná podpora ze strany institucí (x podmínky migrujících pracovních eli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agnace pracovní kariéry, zvětšování mezery mezi jeho a její kariér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city ztráty životní náplně, deprese, partnerské konflik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spojené s kombinací mobility a rodičovstv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oké pracovní vypětí spojené s postdoktorskými stážem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nční nákladn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v podobě pojištění členů rodiny (mimo E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těž pro d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ři návratu a integraci do českého vědeckého prostředí -zahraniční zkušenost a seznam kvalitních publikací negarantuje dobrou pracovní pozici a adekvátní finanční ohodnocení po návratu (viz selhávající ekonomie příslibu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ZÁVĚ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může v takto nastaveném pracovním prostředí prospí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bude schopen a ochoten v takto nastavené vědě praco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znalosti a jaká výzkumná témata tito „vyselektovaní“ pracovníci přinesou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udou tato zjištění prospěšná všem skupinám společnost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Calibri"/>
              </a:rPr>
              <a:t>Děkuji za pozorno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8000"/>
                </a:solidFill>
                <a:uFillTx/>
                <a:latin typeface="Calibri"/>
                <a:hlinkClick r:id="rId1"/>
              </a:rPr>
              <a:t>marta.vohlidalo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c.cas.c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2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469116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nková, Cidlinská, Tenglerová, Vohlídalová, Červinková: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77_105_918"/>
          <p:cNvPicPr/>
          <p:nvPr/>
        </p:nvPicPr>
        <p:blipFill>
          <a:blip r:embed="rId1"/>
          <a:stretch/>
        </p:blipFill>
        <p:spPr>
          <a:xfrm>
            <a:off x="5508720" y="907920"/>
            <a:ext cx="3117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0:11:02Z</dcterms:created>
  <dc:creator>System User</dc:creator>
  <dc:description/>
  <cp:keywords>WLB Konference</cp:keywords>
  <dc:language>en-US</dc:language>
  <cp:lastModifiedBy>Eliska Pudova</cp:lastModifiedBy>
  <dcterms:modified xsi:type="dcterms:W3CDTF">2014-12-01T19:55:39Z</dcterms:modified>
  <cp:revision>259</cp:revision>
  <dc:subject/>
  <dc:title> Postavení mladých lidí ve vědě: problémy a výzv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opis">
    <vt:lpwstr/>
  </property>
  <property fmtid="{D5CDD505-2E9C-101B-9397-08002B2CF9AE}" pid="3" name="TaxCatchAll">
    <vt:lpwstr>5;#WLB Konference</vt:lpwstr>
  </property>
  <property fmtid="{D5CDD505-2E9C-101B-9397-08002B2CF9AE}" pid="4" name="TaxKeyword">
    <vt:lpwstr>5;#WLB Konference|5939ca3c-536a-4404-92ef-45acb3ed99a7</vt:lpwstr>
  </property>
  <property fmtid="{D5CDD505-2E9C-101B-9397-08002B2CF9AE}" pid="5" name="TaxKeywordTaxHTField">
    <vt:lpwstr>WLB Konference|5939ca3c-536a-4404-92ef-45acb3ed99a7</vt:lpwstr>
  </property>
</Properties>
</file>