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453C-00DD-47F2-AD6F-771689EF7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2418-129B-447B-9C9E-08BF963A9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2D55-A83C-4203-AF50-A75331FF6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7FC4-3222-4A9D-BD36-967BA226A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A3DC0-A9FC-4DD3-A47C-FBA3CC8BE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18369-FA58-4FD3-B546-16CC81A93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747DF-09CF-4729-9119-49BE79F76B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0F088-2B18-4C94-A9EB-6036FCF18D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A4993-59B7-42DC-B6E1-F3C4C75242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5A932-2D70-40E5-900A-BD0E636154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B86F9-F3D5-4734-A1E6-D85F2A349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6686-70A9-48C3-A23F-F3E387151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393D3-6EDD-40E2-979C-394FE32A8B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9E702-B8A1-46EA-A7B4-F8F99DBB4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E36A7-C92F-48C1-BD53-BCC03FFD4C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5533E-BAB7-4BAF-B047-F891925C81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A1535-B3B1-4F8B-B297-0F365D5ABE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DA53-1EE9-48A4-AFDC-D45F58C1A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2DA0-8D8C-4281-8754-AAF3F87F1D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F99-1C05-4037-86A8-E641D9AA3B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68E3-57B3-461B-9B20-9A6AFC3B84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8288-2D80-445F-958F-0E647F5A6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00F0-2716-4AF6-851C-475D2B20F8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C79B-2FE4-4B9F-9EB9-4805CD688F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E1FE-CB18-471C-8793-3C6699BAAB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0884-8B2F-4B79-A6CC-8F3573FD65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C14A-A093-4B98-A6E9-DAF6FAAA3E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6B7D-36DB-4719-B6D8-B8E0913A3F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680F-F786-403E-A7B4-38C29FE879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67D1-7012-4E91-909F-6FA210BE83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FE88F-A862-44C0-8B21-C2FACCC699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3A0B4-6B4D-4E62-9CB5-072C2C2C75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8767A-02C0-4D17-A104-1AA34932E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7869-982F-4461-B097-7BD79D905A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83487-6AAE-4803-B20B-4B2F2E8573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EEEC6-1DE4-476E-AD57-603B4082B7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6223B-A4B4-4AAD-AADC-EEA23440E0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85EF8-8647-49A3-A0AD-CB8F0C7B94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E7A66-B09A-46F6-9F7E-5BAB7F8847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12A79-D8FB-4768-9C16-D9326194BB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206E4-63BD-4440-97ED-AEA90BE1D3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C8E02-DC2A-496E-8700-11140CC315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014B2-BE9E-49FC-BAB4-A1364933E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B6AB-6B8D-4E62-906C-A06514FA4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AA3B-FB52-4217-9180-DBF0AE108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D62D-9E2D-426A-91D4-3374E51FC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5764-003D-456F-AF01-A2D4AB9B2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28F9-8826-4EBC-8E2A-0A7057131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19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" name="Picture 2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E4C-87DC-4827-95DC-857EB6225108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2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7" name="Picture 1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8294-895D-4E45-A549-80FB8C0AAAA1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Rectangl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1" name="Picture 12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2521080" y="1125000"/>
            <a:ext cx="6433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C6C4-EA02-435D-8439-169E10098464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1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0" y="0"/>
              <a:ext cx="9144000" cy="234468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Picture 24" descr="titl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7438-20AF-41FB-812B-B35D1A40152C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00040" y="2768400"/>
            <a:ext cx="696420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87d"/>
                </a:solidFill>
                <a:latin typeface="Tahoma"/>
              </a:rPr>
              <a:t>Work-life balance in science:</a:t>
            </a:r>
            <a:br>
              <a:rPr sz="3200"/>
            </a:br>
            <a:br>
              <a:rPr sz="3200"/>
            </a:br>
            <a:r>
              <a:rPr b="0" i="1" lang="cs-CZ" sz="3200" spc="-1" strike="noStrike">
                <a:solidFill>
                  <a:srgbClr val="00287d"/>
                </a:solidFill>
                <a:latin typeface="Tahoma"/>
              </a:rPr>
              <a:t>struggling for papers and time off from the lab</a:t>
            </a:r>
            <a:endParaRPr b="1" lang="en-US" sz="3200" spc="-1" strike="noStrike">
              <a:solidFill>
                <a:srgbClr val="00287d"/>
              </a:solidFill>
              <a:latin typeface="Tahoma"/>
            </a:endParaRPr>
          </a:p>
        </p:txBody>
      </p:sp>
      <p:pic>
        <p:nvPicPr>
          <p:cNvPr id="176" name="Obrázek 3" descr=""/>
          <p:cNvPicPr/>
          <p:nvPr/>
        </p:nvPicPr>
        <p:blipFill>
          <a:blip r:embed="rId1"/>
          <a:stretch/>
        </p:blipFill>
        <p:spPr>
          <a:xfrm>
            <a:off x="2300400" y="5916600"/>
            <a:ext cx="63403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529920" y="5734080"/>
            <a:ext cx="8093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ime to address these challenges is 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6520" y="2482920"/>
            <a:ext cx="8546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young family income (?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childcare help/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zed day care for children (Sweden, Fr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postdoctoral fellow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-family-leave grant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contacts during family leave (Dept Biol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start dates for PhD and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for remote panel/mee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9120" y="1217520"/>
            <a:ext cx="91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y other creative sugg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Obrázek 3" descr=""/>
          <p:cNvPicPr/>
          <p:nvPr/>
        </p:nvPicPr>
        <p:blipFill>
          <a:blip r:embed="rId1"/>
          <a:stretch/>
        </p:blipFill>
        <p:spPr>
          <a:xfrm>
            <a:off x="447840" y="6105600"/>
            <a:ext cx="6949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058760"/>
            <a:ext cx="863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U is No. 3 in CR after Academy of Sciences and Charles University in term of research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cellent infra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out 900 original research papers with IF each year, most of them with major contribution of PhDs and postdoctoral scient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pidly growing number of citations per article – increasing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creasing collaboration with researchers abro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fch 9"/>
          <p:cNvPicPr/>
          <p:nvPr/>
        </p:nvPicPr>
        <p:blipFill>
          <a:blip r:embed="rId6"/>
          <a:stretch/>
        </p:blipFill>
        <p:spPr>
          <a:xfrm>
            <a:off x="4676760" y="4014720"/>
            <a:ext cx="333684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Obrázek 3" descr=""/>
          <p:cNvPicPr/>
          <p:nvPr/>
        </p:nvPicPr>
        <p:blipFill>
          <a:blip r:embed="rId7"/>
          <a:stretch/>
        </p:blipFill>
        <p:spPr>
          <a:xfrm>
            <a:off x="990720" y="4008600"/>
            <a:ext cx="3290760" cy="22190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80" name="Rectangle 7"/>
          <p:cNvSpPr/>
          <p:nvPr/>
        </p:nvSpPr>
        <p:spPr>
          <a:xfrm>
            <a:off x="68400" y="335592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 world average in many fields, some teams excel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Untitled.tiff"/>
          <p:cNvPicPr/>
          <p:nvPr/>
        </p:nvPicPr>
        <p:blipFill>
          <a:blip r:embed="rId1"/>
          <a:stretch/>
        </p:blipFill>
        <p:spPr>
          <a:xfrm>
            <a:off x="1440" y="1158840"/>
            <a:ext cx="5432400" cy="494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4640400" y="1628640"/>
            <a:ext cx="334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at PIs exp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Tal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Hard 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641840" y="3303720"/>
            <a:ext cx="437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hours working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sal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ssive demands and great press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ited perspective to get permanent jo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leisure a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ficult personal lif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8120" y="524988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 of doing science, great discov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stellar carrier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7" descr="1.tiff"/>
          <p:cNvPicPr/>
          <p:nvPr/>
        </p:nvPicPr>
        <p:blipFill>
          <a:blip r:embed="rId2"/>
          <a:stretch/>
        </p:blipFill>
        <p:spPr>
          <a:xfrm>
            <a:off x="6545160" y="2176560"/>
            <a:ext cx="2568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Map 1.tiff"/>
          <p:cNvPicPr/>
          <p:nvPr/>
        </p:nvPicPr>
        <p:blipFill>
          <a:blip r:embed="rId1"/>
          <a:stretch/>
        </p:blipFill>
        <p:spPr>
          <a:xfrm>
            <a:off x="600120" y="1311120"/>
            <a:ext cx="7786800" cy="4938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600120" y="4494240"/>
            <a:ext cx="20797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89120" y="1311120"/>
            <a:ext cx="14716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448160" y="58896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49440" y="148608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der and research outpu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00240" y="2722680"/>
            <a:ext cx="642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Greatest gender parity is often in former communis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Low research output ~ female do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dominate science in Macedonia, Sri Lanka, Latvia, Ukraine and Bosnia/Herzegov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are globally less likely to participate in collaboration and be listed as either first or last auth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Map 2.tiff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218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4570920" y="5826240"/>
            <a:ext cx="772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82760" y="1200240"/>
          <a:ext cx="2665440" cy="2422440"/>
        </p:xfrm>
        <a:graphic>
          <a:graphicData uri="http://schemas.openxmlformats.org/drawingml/2006/table">
            <a:tbl>
              <a:tblPr/>
              <a:tblGrid>
                <a:gridCol w="865080"/>
                <a:gridCol w="576360"/>
                <a:gridCol w="557280"/>
                <a:gridCol w="66672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99" name="Graf 6" descr=""/>
          <p:cNvPicPr/>
          <p:nvPr/>
        </p:nvPicPr>
        <p:blipFill>
          <a:blip r:embed="rId1"/>
          <a:stretch/>
        </p:blipFill>
        <p:spPr>
          <a:xfrm>
            <a:off x="5041800" y="1225440"/>
            <a:ext cx="37054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90680" y="3994200"/>
          <a:ext cx="2735280" cy="2422440"/>
        </p:xfrm>
        <a:graphic>
          <a:graphicData uri="http://schemas.openxmlformats.org/drawingml/2006/table">
            <a:tbl>
              <a:tblPr/>
              <a:tblGrid>
                <a:gridCol w="863640"/>
                <a:gridCol w="576360"/>
                <a:gridCol w="611280"/>
                <a:gridCol w="68400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80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1" name="Graf 8" descr=""/>
          <p:cNvPicPr/>
          <p:nvPr/>
        </p:nvPicPr>
        <p:blipFill>
          <a:blip r:embed="rId2"/>
          <a:stretch/>
        </p:blipFill>
        <p:spPr>
          <a:xfrm>
            <a:off x="5145120" y="3968640"/>
            <a:ext cx="3700440" cy="2176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52360" y="1568520"/>
            <a:ext cx="9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873000" y="3068640"/>
          <a:ext cx="3384720" cy="1655640"/>
        </p:xfrm>
        <a:graphic>
          <a:graphicData uri="http://schemas.openxmlformats.org/drawingml/2006/table">
            <a:tbl>
              <a:tblPr/>
              <a:tblGrid>
                <a:gridCol w="1347840"/>
                <a:gridCol w="679680"/>
                <a:gridCol w="677880"/>
                <a:gridCol w="679320"/>
              </a:tblGrid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ademic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d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oc. 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4" name="Graf 4" descr=""/>
          <p:cNvPicPr/>
          <p:nvPr/>
        </p:nvPicPr>
        <p:blipFill>
          <a:blip r:embed="rId1"/>
          <a:stretch/>
        </p:blipFill>
        <p:spPr>
          <a:xfrm>
            <a:off x="4791240" y="2908440"/>
            <a:ext cx="3450960" cy="209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331280" y="125568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 of MU research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Isosceles Triangle 5"/>
          <p:cNvSpPr/>
          <p:nvPr/>
        </p:nvSpPr>
        <p:spPr>
          <a:xfrm flipH="1">
            <a:off x="-720" y="2017800"/>
            <a:ext cx="5140440" cy="3473280"/>
          </a:xfrm>
          <a:prstGeom prst="triangle">
            <a:avLst>
              <a:gd name="adj" fmla="val 50000"/>
            </a:avLst>
          </a:prstGeom>
          <a:solidFill>
            <a:srgbClr val="ffec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684720" y="1549440"/>
            <a:ext cx="5269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ancing work and lif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unhap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un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004.JPG"/>
          <p:cNvPicPr/>
          <p:nvPr/>
        </p:nvPicPr>
        <p:blipFill>
          <a:blip r:embed="rId1"/>
          <a:stretch/>
        </p:blipFill>
        <p:spPr>
          <a:xfrm>
            <a:off x="5622840" y="4500720"/>
            <a:ext cx="3429000" cy="2288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056360" y="3059280"/>
            <a:ext cx="3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5:21:30Z</dcterms:created>
  <dc:creator>Pavel Jílek</dc:creator>
  <dc:description/>
  <dc:language>en-US</dc:language>
  <cp:lastModifiedBy>Eliska Pudova</cp:lastModifiedBy>
  <dcterms:modified xsi:type="dcterms:W3CDTF">2014-12-01T19:54:52Z</dcterms:modified>
  <cp:revision>36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