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078F-EEB4-4411-9313-B6EC4525C671}" type="datetime">
              <a:rPr b="0" lang="cs-CZ" sz="1200" spc="-1" strike="noStrike">
                <a:solidFill>
                  <a:srgbClr val="000000"/>
                </a:solidFill>
                <a:latin typeface="Calibri"/>
              </a:rPr>
              <a:t>31.07.2026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705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F51C-B160-4223-B2E6-0E8AD6117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ástupný symbol pro datum 2"/>
          <p:cNvSpPr/>
          <p:nvPr/>
        </p:nvSpPr>
        <p:spPr>
          <a:xfrm>
            <a:off x="3860640" y="0"/>
            <a:ext cx="2953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F53D-7F5A-4D32-8CBC-882A4CFA46CF}" type="datetime">
              <a:rPr b="0" lang="cs-CZ" sz="1200" spc="-1" strike="noStrike">
                <a:solidFill>
                  <a:srgbClr val="000000"/>
                </a:solidFill>
                <a:latin typeface="Calibri"/>
              </a:rPr>
              <a:t>31.07.2026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79C-5A8F-4073-B59F-C95B3CD6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9F6-240B-4D1E-89DC-5392F2CE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0FB-3DA9-41AD-8F55-8DE93A1B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DCA4-AD99-453D-B790-80EA3F33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005-7B90-46CF-B861-42975A1C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8ED-C4BE-4FB2-BDB4-8E21E270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F1DA-102B-419A-B46E-24C08715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E9BE-566C-4A6E-9BE8-E61ABFF2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CC5-4708-4C60-929F-4D758C7D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3DF-AFE8-48B8-9CC9-B3E7BB4A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E3E-4560-44EB-B69F-BCF1AA07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F07-51D7-420E-99EA-5D8C3513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28.11.20137. 3. 20137.11.2012</a:t>
            </a:r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Týden vědy a techniky 2012</a:t>
            </a:r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61DB-26CC-4098-9F50-52D847010B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marta.vohlidalova@soc.cas.cz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02560" cy="2663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cs-CZ" sz="3600" spc="-1" strike="noStrike">
                <a:solidFill>
                  <a:srgbClr val="c00000"/>
                </a:solidFill>
                <a:latin typeface="Calibri"/>
              </a:rPr>
              <a:t>Postavení mladých lidí ve vědě: problémy a výzv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32960" y="4508280"/>
            <a:ext cx="7704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hDr. Marta Vohlídalová, Ph.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Sociologický ústav AV ČR, v.v.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27.11.2014, Brno, CEITEC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nkc_logo_barevne_male"/>
          <p:cNvPicPr/>
          <p:nvPr/>
        </p:nvPicPr>
        <p:blipFill>
          <a:blip r:embed="rId1"/>
          <a:stretch/>
        </p:blipFill>
        <p:spPr>
          <a:xfrm>
            <a:off x="385920" y="260280"/>
            <a:ext cx="1595160" cy="1090800"/>
          </a:xfrm>
          <a:prstGeom prst="rect">
            <a:avLst/>
          </a:prstGeom>
          <a:ln w="0">
            <a:noFill/>
          </a:ln>
        </p:spPr>
      </p:pic>
      <p:sp>
        <p:nvSpPr>
          <p:cNvPr id="51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E63D-B039-47E8-AB8E-107BF87369E2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52" name="Picture 9" descr="logo SOU"/>
          <p:cNvPicPr/>
          <p:nvPr/>
        </p:nvPicPr>
        <p:blipFill>
          <a:blip r:embed="rId2"/>
          <a:stretch/>
        </p:blipFill>
        <p:spPr>
          <a:xfrm>
            <a:off x="7380360" y="333360"/>
            <a:ext cx="1244520" cy="787320"/>
          </a:xfrm>
          <a:prstGeom prst="rect">
            <a:avLst/>
          </a:prstGeom>
          <a:ln w="0">
            <a:noFill/>
          </a:ln>
        </p:spPr>
      </p:pic>
      <p:pic>
        <p:nvPicPr>
          <p:cNvPr id="53" name="Obrázek 3" descr=""/>
          <p:cNvPicPr/>
          <p:nvPr/>
        </p:nvPicPr>
        <p:blipFill>
          <a:blip r:embed="rId3"/>
          <a:stretch/>
        </p:blipFill>
        <p:spPr>
          <a:xfrm>
            <a:off x="1120680" y="5950080"/>
            <a:ext cx="6950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LITERAT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European Commission (2010). Study on mobility patterns and career paths of EU researchers. Final Report. Brussels: EC. (http://ec.europa.eu/euraxess/pdf/research_policies/MORE_final_report_final_version.pdf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European Commission. (2012a).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</a:rPr>
              <a:t>Communication from the Commission to the European Parliament, the Council, the European Economic and Social Committee and the Committee of the Regions: A Reinforced European Research Area Partnership for Excellence and Growth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 Brussels: EC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Červinková, A. (2010). „Postdokovat po světě“: genderové politiky akademické mobility.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</a:rPr>
              <a:t>Gender rovné příležitosti výzkum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, 11(1), 49–59. Moguérou, P. (2004). A double gender-family inequality phenomenon in the international mobility of young researchers. (http://128.118.178.162/eps/it/papers/0403/0403003.pdf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Dudová, R., Hašková, H. 2010. „Diskursy, instituce a praxe péče o děti do tří let ve francouzsko-české komparativní perspektivě“. Gender, rovné příležitosti, výzkum 12 (2): 36-47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Hays, S. 1996. The cultural contradictions of motherhood. New Haven, CT: Yale University Pres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nková,M., Červinková, A. 2013- „Vlastní laboratoř“: Akademické trajektorie a gender v současných biovědách.“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Gender, rovné příležitosti, výzkum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14 (1): 15-26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nková, M., Stockelová, T. 2012. „Public accountability and the politicization of science: The peculiar journey of Czech research assesment.“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Science and Public POlicy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39 (2012): 618-629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Shauman, K., &amp; Xie, Y. (1996). Geographic mobility of scientists: sex differences and family constraints.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</a:rPr>
              <a:t>Demography 33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4), 455-468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Vohlídalová, M., Červinková, A. 2013.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Vědci a vědkyně v pohybu: o akademické mobilitě.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raha: SOÚ AV ČR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Vohlídalová, M. 2014. „Acadmic mobility in the context of linked-lives“.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Human Affaires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4 (1): 89-102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Vohlídalová, M. 2013. „Vědkyně mezi dvěma mlýnskými kameny: o podmínkách kombinace práce a rodičovství ve vědecké profesi“ Pp. 99-126 in Linková, M. et al.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Nejisté vyhlídky: proměny vědecké profese z genderové perspektivy.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raha: Sociologické nakladatelství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Wolf-Wendel, L., S.B. Twombly, S. Rice. (2003).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</a:rPr>
              <a:t>The Two-Body Problem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 Baltimore: The Johns Hopkins University Pres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ROMĚNA ROLE VĚDY VE SPOLEČNOSTI: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ěda jako nástroj poznání a lidské emancipa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měřítkem užitečnosti je obecný společenský prospěch) →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ěda jako prostředek ekonomického růstu a prosperity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měřítkem užitečnosti je (okamžitý) ekonomický profit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nková, 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ö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ckelová 201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ROMĚNA FINANCOVÁNÍ VĚDY A JEJÍHO HODNOCE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vedení Metodiky hodnocení v roce 2004, od roku 2009 Metodika jako základ pro výpočet institucionální dota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yšování závislosti institucí VaV na účelovém financování (Např. AV ČR: institucionální dotace 2007: 62 %, 2013: 35 %), kritika ze stran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ezinárodního auditu výzkumu, vývoje a inovací v ČR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hranice 50 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nižující se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úspěšnost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adatelů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GA ČR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35,7 % - 2007, 20,8 % - 2010, 16,5 % - 201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ROMĚNA USPOŘÁDÁNÍ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ĚDECKÉ PRÁC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yšující se důraz na akademickou mobilitu – mobilita jako předpoklad excelence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viz i pravidla pro žadatele o Juniorské granty GAČR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a budování konkurenceschopné vědy a potažmo i ekonomiky (viz tzv. ERA Comminucation 7/2012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8319-E36F-4EAA-AAE2-A297FCF35925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 Unicode MS"/>
                <a:ea typeface="Arial"/>
              </a:rPr>
              <a:t>PROMĚNY VĚDY </a:t>
            </a: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ynamizace uspořádání vědeckých týmů: mizení pozic samostatných vědeckých pracovníků, nárůst počtu dočasných postdoktorských pozic vyžadujících extrémní mobilitu (prostorovou, časovou) i soutěživost (Linková, Červinková 201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ktorské a postdoktorské pozice: často nízké pracovní standardy, v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ětšina smluv na dobu určitou, část z nich není kryta sociálním pojištěním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doktorandů často DPP, DPČ (x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ociální pojištění, mateřská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émy pracovních smluv na dobu určitou: ztráta nároku na odstupné v případě ztráty pracovní pozice, celková ekonomická nejistota, rodičovství a mateřství;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řetězení postdoktorských stáž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kaz řetězení pracovním smluv na dobu určitou: novela zákoníku práce z roku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01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ušící výjimku pro instituce VaV a VŠ ohledně řetězení pracovních smluv (dnes: pravidlo „dvakrát a dost“, max. délka smlouvy 3 roky) x reali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edstavy o ideální pracovní dráze: Ph.D., postdoktorská stáž, samostatná/vedoucí pozice x reálné možnosti jejího naplnění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85B9-663D-4D23-A874-278672385542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  <a:ea typeface="Arial"/>
              </a:rPr>
              <a:t>ROSTOUCÍ NEJISTOTA A PREKARIZACE VĚDECKÉ PROFESE I</a:t>
            </a: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Jak se s touto situací vyrovnávají mladí vědci a vědkyně?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viz Cidlinská, Linková 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ilná normalizace nejistoty práce, trvalá pracovní pozice jako nadstandard, nejčastější odpověď týkající se profesních plánů (s výjimkou ukončení Ph.D.):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„nevím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ěda je mladými lidmi chápána spíše jako zaměstnání (intelektuálně a časově náročné), nikoliv jako posl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terému je třeba obětovat vše a který je hlavním smyslem živo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ožnost odchodu z vědy jakožto nedílná součást uvažování o další kariéře:  Perspektiva uplatnění mimo vědu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mezený soukromý výzkumný sektor, akademická orientace doktorských programů, stereotypní představy zaměstnavatelů (překvalifikovanost, nedostatek praxe), absence kariérního poradenství na VŠ/institucích Va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lhávající „ekonomie příslibu“: velké pracovní nasazení, flexibilita a nejistota na začátku pracovní dráhy byly tradičně vykupovány příslibem budoucího osamostatnění se, stability a tvůrčí svobody, které však již nelze garantov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9DB9-4A2F-425A-B999-B1DF45F8EA18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  <a:ea typeface="Arial"/>
              </a:rPr>
              <a:t>ROSTOUCÍ NEJISTOTA A PREKARIZACE VĚDECKÉ PROFESE II</a:t>
            </a: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KOMBINACE VĚDECKÉ PRÁCE A RODIČOVS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ědci/kyně mezi dvěma mlýnskými kamen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Vohlídalová 2013, Linková, Červinková 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astavení vědeckého pracovního prostřed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 ideál lineární pracovní dráhy nepřerušovaný kariérními přestávkami, časová rozpínavost práce, soutěživo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7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eferovaný model: „minimální mateřství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analizace problému kombinace práce a rodičovství –flexibilita jako všelék, individualizace problému, důraz na roli vlastní volby a svobodného rozhodnutí kombinace práce a pé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astavení institucionálních podmínek péče: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onzervativní rodinná politika (důraz na dlouhý pobyt žen s dětmi v domácnosti, reálná nedostupnost volby zkrácené varianty rodičovské, nedostupnost zařízení péče i pro děti starší 3 let, absence zařízení pro děti mladší 3 le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eferovaná podoba mateřství: „intenzivní mateřství“ (Hays 1996) – maximální pozornost věnovaná dítěti, dlouhodobý pobyt matky v domác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edstava o nesouladu mezi zájmy dítěte a ekonomickou aktivitou matky (x Fr a jiné kulturní kontexty) (Dudová, Hašková 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radiční dělba genderových rolí v domácnosti (včetně dvoukariérních párů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Reálná volba možnosti kombinace práce a péče je značně omezená a podmínky pro kombinaci vědecké profese a rodičovství jsou nevyhovujíc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což negativně ovlivňuje zejména ženské pracovní drá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AKADEMICKÁ MOBIL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ademická mobilita jako jedna z priorit Evropských vědních polit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 mobility se stává předpoklad kariérního růstu → vylučování těch, co nejsou (nemohou) být mobil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Genderové rozdíly (zkušenosti s mobilitou v ČR - HEI sektor 45% m, 33% ž, veřejní výzkumný sektor 70 % m a 53 % ž; EC 2010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lišné vzorce: ženy kratší stáže do 6 měsíců v době PhD, muži častěji delší pobyty a postdoktorské stáže a regulérní pracovní pozi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dinný stav a rodičovství a zejména mateřství (Moguérou 2004, Shauman a Xie 199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alá pozornost věnovaná dopadům mobility na soukromý život migrujících vědců a jejich rodin a partner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etodologie: 16 rozhovorů s vědci a vědkyněmi se zkušeností s mobilitou, 16 společných rozhovorů s akademickými pá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AKADEMICKÁ MOBILITA, PARTNERSKÝ A RODINNÝ ŽIVOT, NÁVRA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enderové rozdíly v uspořádání soukromého a rodinného života v důsledku mobility (migrující vědkyně – LAT, migrující vědci – stěhování rodin) (Vohlídalová 2014, Červinková 2010, Vohlídalová, Červinková 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enderové rozdíly v argumentac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pady mobility na partnerky mobilních vědců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wo-body problem“ (Wolf-Wendel 2009) – problémy s hledáním práce, uzavřené pracovní trhy a nedostatečná podpora ze strany institucí (x podmínky migrujících pracovních eli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agnace pracovní kariéry, zvětšování mezery mezi jeho a její kariér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city ztráty životní náplně, deprese, partnerské konflik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émy spojené s kombinací mobility a rodičovství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soké pracovní vypětí spojené s postdoktorskými stážem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nanční nákladno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émy v podobě pojištění členů rodiny (mimo E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těž pro dě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émy při návratu a integraci do českého vědeckého prostředí -zahraniční zkušenost a seznam kvalitních publikací negarantuje dobrou pracovní pozici a adekvátní finanční ohodnocení po návratu (viz selhávající ekonomie příslibu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ZÁVĚR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do může v takto nastaveném pracovním prostředí prospív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do bude schopen a ochoten v takto nastavené vědě pracov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znalosti a jaká výzkumná témata tito „vyselektovaní“ pracovníci přinesou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udou tato zjištění prospěšná všem skupinám společnost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cc0000"/>
                </a:solidFill>
                <a:latin typeface="Calibri"/>
              </a:rPr>
              <a:t>Děkuji za pozorno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8000"/>
                </a:solidFill>
                <a:uFillTx/>
                <a:latin typeface="Calibri"/>
                <a:hlinkClick r:id="rId1"/>
              </a:rPr>
              <a:t>marta.vohlidalo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c.cas.c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3" descr=""/>
          <p:cNvPicPr/>
          <p:nvPr/>
        </p:nvPicPr>
        <p:blipFill>
          <a:blip r:embed="rId2"/>
          <a:stretch/>
        </p:blipFill>
        <p:spPr>
          <a:xfrm>
            <a:off x="1120680" y="5950080"/>
            <a:ext cx="6950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469116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nková, Cidlinská, Tenglerová, Vohlídalová, Červinková: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Nejisté vyhlídky: proměny vědecké profese z genderové perspektiv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LON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77_105_918"/>
          <p:cNvPicPr/>
          <p:nvPr/>
        </p:nvPicPr>
        <p:blipFill>
          <a:blip r:embed="rId1"/>
          <a:stretch/>
        </p:blipFill>
        <p:spPr>
          <a:xfrm>
            <a:off x="5508720" y="907920"/>
            <a:ext cx="31176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0:11:02Z</dcterms:created>
  <dc:creator>System User</dc:creator>
  <dc:description/>
  <cp:keywords>WLB Konference</cp:keywords>
  <dc:language>en-US</dc:language>
  <cp:lastModifiedBy>Eliska Pudova</cp:lastModifiedBy>
  <dcterms:modified xsi:type="dcterms:W3CDTF">2014-12-01T19:55:39Z</dcterms:modified>
  <cp:revision>259</cp:revision>
  <dc:subject/>
  <dc:title> Postavení mladých lidí ve vědě: problémy a výzv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opis">
    <vt:lpwstr/>
  </property>
  <property fmtid="{D5CDD505-2E9C-101B-9397-08002B2CF9AE}" pid="3" name="TaxCatchAll">
    <vt:lpwstr>5;#WLB Konference</vt:lpwstr>
  </property>
  <property fmtid="{D5CDD505-2E9C-101B-9397-08002B2CF9AE}" pid="4" name="TaxKeyword">
    <vt:lpwstr>5;#WLB Konference|5939ca3c-536a-4404-92ef-45acb3ed99a7</vt:lpwstr>
  </property>
  <property fmtid="{D5CDD505-2E9C-101B-9397-08002B2CF9AE}" pid="5" name="TaxKeywordTaxHTField">
    <vt:lpwstr>WLB Konference|5939ca3c-536a-4404-92ef-45acb3ed99a7</vt:lpwstr>
  </property>
</Properties>
</file>