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E159-15C0-474C-B1B0-BC841CB68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C130-C5AA-46AC-936B-0AC0B1645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FB31-2862-4DAD-AC41-6CACFC9D9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8C9D-5315-42E0-A120-5A6C4EAC5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3F3B1-C1A4-452F-BBCB-D605F62B4E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E16DE-5AEA-4C7F-8745-9221547BDD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1B364-C44C-4D6A-B9E3-AC42C5E30C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C21E7-65A0-4950-BE4C-471061E64A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1BD9E-64AB-4915-8748-872F0152F2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23106-65A2-4CBF-8F56-166E91891A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2C027-6A6F-4E9D-9E0C-4D0DA924A5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6405-F715-4AB5-B06D-5124EE411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1F0EB-C6C7-46E1-8EF3-30B98FEEEF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6013C-C56E-4502-B2CA-ADE33A4686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4D9CD-7A41-4813-9773-12AF55B318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BD039-65FF-4096-8494-CC139FB17B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23DEE-BEDA-4F93-8381-774E6104EE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E6BB-7D39-4554-9AB7-DB19FC284C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7352-5B87-4B27-8466-0272FAC10E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E72-F29D-4E09-BE97-A6F5492A29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3F0F-4C60-44EF-881E-C84D5A9C17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DA31-A24D-4CD3-B940-30F35223E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5562-E10D-4ED6-9181-363FD6C718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E9C4-6242-430E-BDB5-73274A3215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3748-1ADB-4FA3-A4F0-CCC3AFC726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5676-4F6D-498D-8234-EBDAC464D7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7837-3F75-4AA5-B255-3DD2D164BC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37A1-B7D4-486C-8F32-2F1249F740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B994-8ED0-4440-8895-AF9C1C093F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49F6-4CFE-43ED-A6F4-5691AF6C91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0CB47-1298-4FED-8D93-69238989A8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72E46-C912-47AB-A2AC-78D1BC719C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37AFB-CE6B-41C8-81C0-646AFCBF5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B8FB-F6E4-4DEF-B8D7-38D5DFA74A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89281-305F-469C-A707-1DD5D2E074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8F567-EA41-4FBF-BD84-8668D346E4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08C31-512B-4533-A798-A683B904EF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E630E-5547-4FC0-A455-00C6F9D28C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8D526-C839-4E6A-84C9-02FC44CFA2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1B9DF-457B-436F-B009-335BFC6E51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847E8-623E-4C4E-830C-2E25F021D5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3A144-C5EB-4791-9934-C681576C12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98995-7694-458A-84AC-A4EC09A49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93F03-23BC-4B9C-A299-6B59501E2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C9B6-2E47-41FA-8F65-A042FC0EF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08A7-25AB-4462-9A23-FC9752082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4986-45BB-4A47-9BB7-72A99127F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94E7-0859-4339-9488-B49B968E1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19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" name="Picture 2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4FE5-7ABB-44DB-AA3D-DA033DFE8EEB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Rectangle 12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7" name="Picture 1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B535-52E7-4B84-ABEC-879352571A99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Rectangle 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91" name="Picture 12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2521080" y="1125000"/>
            <a:ext cx="64339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5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643F-1E51-442E-A0EA-91D3316BD081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Rectangle 1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0" y="0"/>
              <a:ext cx="9144000" cy="234468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4" name="Picture 24" descr="titl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7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5017-98E1-42E1-9170-A30DCB320FFB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00040" y="2768400"/>
            <a:ext cx="696420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87d"/>
                </a:solidFill>
                <a:latin typeface="Tahoma"/>
              </a:rPr>
              <a:t>Work-life balance in science:</a:t>
            </a:r>
            <a:br>
              <a:rPr sz="3200"/>
            </a:br>
            <a:br>
              <a:rPr sz="3200"/>
            </a:br>
            <a:r>
              <a:rPr b="0" i="1" lang="cs-CZ" sz="3200" spc="-1" strike="noStrike">
                <a:solidFill>
                  <a:srgbClr val="00287d"/>
                </a:solidFill>
                <a:latin typeface="Tahoma"/>
              </a:rPr>
              <a:t>struggling for papers and time off from the lab</a:t>
            </a:r>
            <a:endParaRPr b="1" lang="en-US" sz="3200" spc="-1" strike="noStrike">
              <a:solidFill>
                <a:srgbClr val="00287d"/>
              </a:solidFill>
              <a:latin typeface="Tahoma"/>
            </a:endParaRPr>
          </a:p>
        </p:txBody>
      </p:sp>
      <p:pic>
        <p:nvPicPr>
          <p:cNvPr id="176" name="Obrázek 3" descr=""/>
          <p:cNvPicPr/>
          <p:nvPr/>
        </p:nvPicPr>
        <p:blipFill>
          <a:blip r:embed="rId1"/>
          <a:stretch/>
        </p:blipFill>
        <p:spPr>
          <a:xfrm>
            <a:off x="2300400" y="5916600"/>
            <a:ext cx="63403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529920" y="5734080"/>
            <a:ext cx="8093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ime to address these challenges is 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236520" y="2482920"/>
            <a:ext cx="8546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young family income (?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childcare help/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dized day care for children (Sweden, Franc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postdoctoral fellow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-family-leave grant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 contacts during family leave (Dept Biol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start dates for PhD and g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for remote panel/meeting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69120" y="1217520"/>
            <a:ext cx="91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y other creative suggestion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Obrázek 3" descr=""/>
          <p:cNvPicPr/>
          <p:nvPr/>
        </p:nvPicPr>
        <p:blipFill>
          <a:blip r:embed="rId1"/>
          <a:stretch/>
        </p:blipFill>
        <p:spPr>
          <a:xfrm>
            <a:off x="447840" y="6105600"/>
            <a:ext cx="69498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24000" y="1058760"/>
            <a:ext cx="863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U is No. 3 in CR after Academy of Sciences and Charles University in term of research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cellent infrastru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bout 900 original research papers with IF each year, most of them with major contribution of PhDs and postdoctoral scient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apidly growing number of citations per article – increasing qu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creasing collaboration with researchers abroa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0" descr="fch 9"/>
          <p:cNvPicPr/>
          <p:nvPr/>
        </p:nvPicPr>
        <p:blipFill>
          <a:blip r:embed="rId6"/>
          <a:stretch/>
        </p:blipFill>
        <p:spPr>
          <a:xfrm>
            <a:off x="4676760" y="4014720"/>
            <a:ext cx="3336840" cy="221940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79" name="Obrázek 3" descr=""/>
          <p:cNvPicPr/>
          <p:nvPr/>
        </p:nvPicPr>
        <p:blipFill>
          <a:blip r:embed="rId7"/>
          <a:stretch/>
        </p:blipFill>
        <p:spPr>
          <a:xfrm>
            <a:off x="990720" y="4008600"/>
            <a:ext cx="3290760" cy="221904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80" name="Rectangle 7"/>
          <p:cNvSpPr/>
          <p:nvPr/>
        </p:nvSpPr>
        <p:spPr>
          <a:xfrm>
            <a:off x="68400" y="3355920"/>
            <a:ext cx="90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 world average in many fields, some teams excel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Untitled.tiff"/>
          <p:cNvPicPr/>
          <p:nvPr/>
        </p:nvPicPr>
        <p:blipFill>
          <a:blip r:embed="rId1"/>
          <a:stretch/>
        </p:blipFill>
        <p:spPr>
          <a:xfrm>
            <a:off x="1440" y="1158840"/>
            <a:ext cx="5432400" cy="49467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4640400" y="1628640"/>
            <a:ext cx="334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What PIs exp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Tal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Hard wor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641840" y="3303720"/>
            <a:ext cx="437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hours working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sala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ssive demands and great press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mited perspective to get permanent jo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leisure activ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fficult personal lif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048120" y="5249880"/>
            <a:ext cx="60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 of doing science, great discove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stellar carrier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7" descr="1.tiff"/>
          <p:cNvPicPr/>
          <p:nvPr/>
        </p:nvPicPr>
        <p:blipFill>
          <a:blip r:embed="rId2"/>
          <a:stretch/>
        </p:blipFill>
        <p:spPr>
          <a:xfrm>
            <a:off x="6545160" y="2176560"/>
            <a:ext cx="2568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Map 1.tiff"/>
          <p:cNvPicPr/>
          <p:nvPr/>
        </p:nvPicPr>
        <p:blipFill>
          <a:blip r:embed="rId1"/>
          <a:stretch/>
        </p:blipFill>
        <p:spPr>
          <a:xfrm>
            <a:off x="600120" y="1311120"/>
            <a:ext cx="7786800" cy="49388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600120" y="4494240"/>
            <a:ext cx="2079720" cy="16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89120" y="1311120"/>
            <a:ext cx="147168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4448160" y="58896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649440" y="148608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nder and research outpu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00240" y="2722680"/>
            <a:ext cx="6426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Greatest gender parity is often in former communist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Low research output ~ female domi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dominate science in Macedonia, Sri Lanka, Latvia, Ukraine and Bosnia/Herzegovi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are globally less likely to participate in collaboration and be listed as either first or last auth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Map 2.tiff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2182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4570920" y="5826240"/>
            <a:ext cx="772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282760" y="1200240"/>
          <a:ext cx="2665440" cy="2422440"/>
        </p:xfrm>
        <a:graphic>
          <a:graphicData uri="http://schemas.openxmlformats.org/drawingml/2006/table">
            <a:tbl>
              <a:tblPr/>
              <a:tblGrid>
                <a:gridCol w="865080"/>
                <a:gridCol w="576360"/>
                <a:gridCol w="557280"/>
                <a:gridCol w="66672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199" name="Graf 6" descr=""/>
          <p:cNvPicPr/>
          <p:nvPr/>
        </p:nvPicPr>
        <p:blipFill>
          <a:blip r:embed="rId1"/>
          <a:stretch/>
        </p:blipFill>
        <p:spPr>
          <a:xfrm>
            <a:off x="5041800" y="1225440"/>
            <a:ext cx="37054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290680" y="3994200"/>
          <a:ext cx="2735280" cy="2422440"/>
        </p:xfrm>
        <a:graphic>
          <a:graphicData uri="http://schemas.openxmlformats.org/drawingml/2006/table">
            <a:tbl>
              <a:tblPr/>
              <a:tblGrid>
                <a:gridCol w="863640"/>
                <a:gridCol w="576360"/>
                <a:gridCol w="611280"/>
                <a:gridCol w="68400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80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388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1" name="Graf 8" descr=""/>
          <p:cNvPicPr/>
          <p:nvPr/>
        </p:nvPicPr>
        <p:blipFill>
          <a:blip r:embed="rId2"/>
          <a:stretch/>
        </p:blipFill>
        <p:spPr>
          <a:xfrm>
            <a:off x="5145120" y="3968640"/>
            <a:ext cx="3700440" cy="2176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252360" y="1568520"/>
            <a:ext cx="948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873000" y="3068640"/>
          <a:ext cx="3384720" cy="1655640"/>
        </p:xfrm>
        <a:graphic>
          <a:graphicData uri="http://schemas.openxmlformats.org/drawingml/2006/table">
            <a:tbl>
              <a:tblPr/>
              <a:tblGrid>
                <a:gridCol w="1347840"/>
                <a:gridCol w="679680"/>
                <a:gridCol w="677880"/>
                <a:gridCol w="679320"/>
              </a:tblGrid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ademic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do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oc. 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0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4" name="Graf 4" descr=""/>
          <p:cNvPicPr/>
          <p:nvPr/>
        </p:nvPicPr>
        <p:blipFill>
          <a:blip r:embed="rId1"/>
          <a:stretch/>
        </p:blipFill>
        <p:spPr>
          <a:xfrm>
            <a:off x="4791240" y="2908440"/>
            <a:ext cx="3450960" cy="209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1331280" y="125568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ucture of MU research staf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Isosceles Triangle 5"/>
          <p:cNvSpPr/>
          <p:nvPr/>
        </p:nvSpPr>
        <p:spPr>
          <a:xfrm flipH="1">
            <a:off x="-720" y="2017800"/>
            <a:ext cx="5140440" cy="3473280"/>
          </a:xfrm>
          <a:prstGeom prst="triangle">
            <a:avLst>
              <a:gd name="adj" fmla="val 50000"/>
            </a:avLst>
          </a:prstGeom>
          <a:solidFill>
            <a:srgbClr val="ffec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684720" y="1549440"/>
            <a:ext cx="52693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lancing work and lif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unhap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un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004.JPG"/>
          <p:cNvPicPr/>
          <p:nvPr/>
        </p:nvPicPr>
        <p:blipFill>
          <a:blip r:embed="rId1"/>
          <a:stretch/>
        </p:blipFill>
        <p:spPr>
          <a:xfrm>
            <a:off x="5622840" y="4500720"/>
            <a:ext cx="3429000" cy="2288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7056360" y="3059280"/>
            <a:ext cx="30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5:21:30Z</dcterms:created>
  <dc:creator>Pavel Jílek</dc:creator>
  <dc:description/>
  <dc:language>en-US</dc:language>
  <cp:lastModifiedBy>Eliska Pudova</cp:lastModifiedBy>
  <dcterms:modified xsi:type="dcterms:W3CDTF">2014-12-01T19:54:52Z</dcterms:modified>
  <cp:revision>36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/>
  </property>
  <property fmtid="{D5CDD505-2E9C-101B-9397-08002B2CF9AE}" pid="3" name="TaxKeyword">
    <vt:lpwstr/>
  </property>
  <property fmtid="{D5CDD505-2E9C-101B-9397-08002B2CF9AE}" pid="4" name="TaxKeywordTaxHTField">
    <vt:lpwstr/>
  </property>
</Properties>
</file>